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2.wmf" ContentType="image/x-wmf"/>
  <Override PartName="/ppt/media/image11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A23-901D-4F93-86BD-102A33BC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F9E-0423-41F4-A605-B73283B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B20-2191-42B1-8C20-894139EE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633-8024-4C40-B083-605B1C27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A63-F45C-4DE3-88B9-D068011E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26B-ECBD-4A1E-BFF5-9B8BB18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95E-084D-4EC6-A8C3-3B1A92F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9F4-FBD7-40CC-BEBC-0F074C9F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E59-2819-472C-9B7F-A84696B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20C-BA0A-410E-899D-6EBDAAF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888-40F8-44F5-A7EF-EA77520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B06-B829-406D-AB55-3681484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6667-92D2-4562-A3BE-BA7610B76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914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nificación de Contingen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0120"/>
            <a:ext cx="64008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2439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ciones de Plan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os e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terminar pol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tablecer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as actividades para alcanzar los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ignar roles y tiem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parar e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11920"/>
            <a:ext cx="2209680" cy="187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38480" y="6705720"/>
            <a:ext cx="2414880" cy="192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7543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íticas y 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mentos esenciales deben ser compatibles con el resto del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mente aceptados por todos los 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necesariamente estadíst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alistas y facti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00200" y="59436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dades por s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gis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ificación de Empla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méstico y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n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ud y nutr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vicio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5562720"/>
            <a:ext cx="2305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ganización y Administració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ucturas administrativ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ordi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nsu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es ejecutivos y modos de ejecu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líticas sobre med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ategia de financi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oyo administrativo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icin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formación para añadi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p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uadros estadístic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gislación importan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rmulario de registro y formatos de segu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rganigrama de pers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sobre las condiciones de v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6934320"/>
            <a:ext cx="212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858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791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4 - Monitores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572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3 - Objetivos y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S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2 -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1 - Situación General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ip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n esquema de un típico Plan 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Ponerlo al Dí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plan de contingencia no es estadístico.  Es esencial ponerlo al día regularment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6004080"/>
            <a:ext cx="5105160" cy="30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9579800">
            <a:off x="1908000" y="647604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  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ificación de Conting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829480" cy="54864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ceso de planificación en estado de incertidumbre donde hay acuerdo sobre los escenarios y objetivos; donde las acciones técnicas y administrativas están definidas, y donde los sistemas potenciales de respuestas están puestos en su sitio para prevenir, o responder mejor, a las emergencias o situaciones crític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70102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edidas de Preparación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480" y="2641680"/>
            <a:ext cx="6343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ficación de las contin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as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a la mano (o disponi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dos de eme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ínea directiva y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5638680"/>
            <a:ext cx="2819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quisitos para enfrentarse efectivamente a las situaciones de emergencia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743200"/>
            <a:ext cx="5943600" cy="5257800"/>
            <a:chOff x="457200" y="2743200"/>
            <a:chExt cx="5943600" cy="5257800"/>
          </a:xfrm>
        </p:grpSpPr>
        <p:sp>
          <p:nvSpPr>
            <p:cNvPr id="52" name=""/>
            <p:cNvSpPr/>
            <p:nvPr/>
          </p:nvSpPr>
          <p:spPr>
            <a:xfrm>
              <a:off x="1523880" y="2743200"/>
              <a:ext cx="3429000" cy="335304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572000"/>
              <a:ext cx="3352680" cy="34290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" y="4648320"/>
              <a:ext cx="3352680" cy="335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33720" y="35053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lanificación Ef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es Rápida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ursos Disponibl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Niveles de Prepa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4114800"/>
            <a:ext cx="6018480" cy="4233240"/>
            <a:chOff x="533520" y="4114800"/>
            <a:chExt cx="6018480" cy="4233240"/>
          </a:xfrm>
        </p:grpSpPr>
        <p:grpSp>
          <p:nvGrpSpPr>
            <p:cNvPr id="60" name=""/>
            <p:cNvGrpSpPr/>
            <p:nvPr/>
          </p:nvGrpSpPr>
          <p:grpSpPr>
            <a:xfrm>
              <a:off x="533520" y="4114800"/>
              <a:ext cx="6018480" cy="4233240"/>
              <a:chOff x="533520" y="4114800"/>
              <a:chExt cx="6018480" cy="4233240"/>
            </a:xfrm>
          </p:grpSpPr>
          <p:sp>
            <p:nvSpPr>
              <p:cNvPr id="61" name=""/>
              <p:cNvSpPr/>
              <p:nvPr/>
            </p:nvSpPr>
            <p:spPr>
              <a:xfrm>
                <a:off x="537480" y="7379280"/>
                <a:ext cx="6014520" cy="965880"/>
              </a:xfrm>
              <a:custGeom>
                <a:avLst/>
                <a:gdLst/>
                <a:ahLst/>
                <a:rect l="l" t="t" r="r" b="b"/>
                <a:pathLst>
                  <a:path w="5715" h="710">
                    <a:moveTo>
                      <a:pt x="0" y="710"/>
                    </a:moveTo>
                    <a:lnTo>
                      <a:pt x="3727" y="710"/>
                    </a:lnTo>
                    <a:lnTo>
                      <a:pt x="5715" y="0"/>
                    </a:lnTo>
                    <a:lnTo>
                      <a:pt x="1472" y="0"/>
                    </a:lnTo>
                    <a:lnTo>
                      <a:pt x="0" y="71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3520" y="4114800"/>
                <a:ext cx="1555200" cy="4233240"/>
              </a:xfrm>
              <a:custGeom>
                <a:avLst/>
                <a:gdLst/>
                <a:ahLst/>
                <a:rect l="l" t="t" r="r" b="b"/>
                <a:pathLst>
                  <a:path w="1478" h="3121">
                    <a:moveTo>
                      <a:pt x="0" y="3121"/>
                    </a:moveTo>
                    <a:lnTo>
                      <a:pt x="1478" y="2408"/>
                    </a:lnTo>
                    <a:lnTo>
                      <a:pt x="1478" y="0"/>
                    </a:lnTo>
                    <a:lnTo>
                      <a:pt x="0" y="448"/>
                    </a:lnTo>
                    <a:lnTo>
                      <a:pt x="0" y="3121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99280" y="4722840"/>
              <a:ext cx="4373280" cy="3381480"/>
              <a:chOff x="899280" y="4722840"/>
              <a:chExt cx="4373280" cy="33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34680" y="5325120"/>
                <a:ext cx="2736000" cy="2054160"/>
              </a:xfrm>
              <a:custGeom>
                <a:avLst/>
                <a:gdLst/>
                <a:ahLst/>
                <a:rect l="l" t="t" r="r" b="b"/>
                <a:pathLst>
                  <a:path w="2599" h="1515">
                    <a:moveTo>
                      <a:pt x="0" y="816"/>
                    </a:moveTo>
                    <a:lnTo>
                      <a:pt x="693" y="536"/>
                    </a:lnTo>
                    <a:lnTo>
                      <a:pt x="1126" y="712"/>
                    </a:lnTo>
                    <a:lnTo>
                      <a:pt x="1353" y="269"/>
                    </a:lnTo>
                    <a:lnTo>
                      <a:pt x="2077" y="0"/>
                    </a:lnTo>
                    <a:lnTo>
                      <a:pt x="2599" y="178"/>
                    </a:lnTo>
                    <a:lnTo>
                      <a:pt x="1819" y="1515"/>
                    </a:lnTo>
                    <a:lnTo>
                      <a:pt x="0" y="1515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3464" y="2316"/>
                    </a:lnTo>
                    <a:lnTo>
                      <a:pt x="3464" y="0"/>
                    </a:lnTo>
                    <a:lnTo>
                      <a:pt x="2683" y="979"/>
                    </a:lnTo>
                    <a:lnTo>
                      <a:pt x="1991" y="624"/>
                    </a:lnTo>
                    <a:lnTo>
                      <a:pt x="1299" y="1603"/>
                    </a:lnTo>
                    <a:lnTo>
                      <a:pt x="606" y="1158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637" y="1271"/>
                    </a:lnTo>
                    <a:lnTo>
                      <a:pt x="1299" y="1692"/>
                    </a:lnTo>
                    <a:lnTo>
                      <a:pt x="1991" y="713"/>
                    </a:lnTo>
                    <a:lnTo>
                      <a:pt x="2683" y="1069"/>
                    </a:lnTo>
                    <a:lnTo>
                      <a:pt x="3291" y="267"/>
                    </a:lnTo>
                    <a:lnTo>
                      <a:pt x="3378" y="356"/>
                    </a:lnTo>
                    <a:lnTo>
                      <a:pt x="3464" y="0"/>
                    </a:lnTo>
                    <a:lnTo>
                      <a:pt x="3117" y="91"/>
                    </a:lnTo>
                    <a:lnTo>
                      <a:pt x="3205" y="178"/>
                    </a:lnTo>
                    <a:lnTo>
                      <a:pt x="2640" y="893"/>
                    </a:lnTo>
                    <a:lnTo>
                      <a:pt x="1959" y="536"/>
                    </a:lnTo>
                    <a:lnTo>
                      <a:pt x="1267" y="1517"/>
                    </a:lnTo>
                    <a:lnTo>
                      <a:pt x="606" y="1082"/>
                    </a:lnTo>
                    <a:lnTo>
                      <a:pt x="0" y="2040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4280" y="4722840"/>
                <a:ext cx="728280" cy="3381480"/>
              </a:xfrm>
              <a:custGeom>
                <a:avLst/>
                <a:gdLst/>
                <a:ahLst/>
                <a:rect l="l" t="t" r="r" b="b"/>
                <a:pathLst>
                  <a:path w="692" h="2494">
                    <a:moveTo>
                      <a:pt x="0" y="2494"/>
                    </a:moveTo>
                    <a:lnTo>
                      <a:pt x="692" y="2228"/>
                    </a:lnTo>
                    <a:lnTo>
                      <a:pt x="692" y="0"/>
                    </a:lnTo>
                    <a:lnTo>
                      <a:pt x="0" y="178"/>
                    </a:lnTo>
                    <a:lnTo>
                      <a:pt x="0" y="2494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133720" y="7238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21160"/>
            <a:ext cx="281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Espec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352680"/>
            <a:ext cx="4038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Alerta Intensif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29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5962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No solamente un Pl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grupo de personas o organizaciones trabajando juntos y en forma continua para identificar objetivos en común y definir acciones respectiv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6705720"/>
            <a:ext cx="36576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1252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onde esta usted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3429000"/>
            <a:ext cx="4648320" cy="3200400"/>
            <a:chOff x="1752480" y="3429000"/>
            <a:chExt cx="4648320" cy="3200400"/>
          </a:xfrm>
        </p:grpSpPr>
        <p:sp>
          <p:nvSpPr>
            <p:cNvPr id="76" name=""/>
            <p:cNvSpPr/>
            <p:nvPr/>
          </p:nvSpPr>
          <p:spPr>
            <a:xfrm>
              <a:off x="4191120" y="3429000"/>
              <a:ext cx="220968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y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5029200"/>
              <a:ext cx="220968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 reun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 pla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429000"/>
              <a:ext cx="2438640" cy="16002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029200"/>
              <a:ext cx="2438640" cy="1600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plane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0880" y="2438280"/>
            <a:ext cx="1219320" cy="5562720"/>
          </a:xfrm>
          <a:prstGeom prst="upArrow">
            <a:avLst>
              <a:gd name="adj1" fmla="val 50000"/>
              <a:gd name="adj2" fmla="val 1140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8124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7238880"/>
            <a:ext cx="4572000" cy="9144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r o c e s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lementos de un 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ormación básica d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sibles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s/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Se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ex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324480"/>
            <a:ext cx="33526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Información Básica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el Paí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m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 e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ra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gislación de as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esencia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curso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0:13:37Z</dcterms:created>
  <dc:creator>ops</dc:creator>
  <dc:description/>
  <dc:language>en-US</dc:language>
  <cp:lastModifiedBy>ops</cp:lastModifiedBy>
  <cp:lastPrinted>1999-10-20T01:58:35Z</cp:lastPrinted>
  <dcterms:modified xsi:type="dcterms:W3CDTF">1999-10-20T02:01:11Z</dcterms:modified>
  <cp:revision>6</cp:revision>
  <dc:subject/>
  <dc:title>Planificación de Contingencias</dc:title>
</cp:coreProperties>
</file>