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2.wmf" ContentType="image/x-wmf"/>
  <Override PartName="/ppt/media/image11.jpeg" ContentType="image/jpeg"/>
  <Override PartName="/ppt/media/image16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C38-D214-4F6C-B52E-6AF1F799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545-5257-4E9B-B62F-8973D5FB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6D3-15AD-4E7B-B1D2-62EA58FE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AA0-298F-4B83-9E6D-C0804C79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D71-DB56-4579-BF11-4720794B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1D3-BA35-48B4-941A-9FB22F5E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32D-29CF-4426-8622-EA2DDD5F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EDB-8241-47E1-82CE-99777205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0B2-F1D4-4B29-9649-5D977AA1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3C4-30FE-44D8-83FE-AFB3513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37F-D80F-49B9-A6F7-BC634B1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586-6B3B-46BA-B51A-030C0C1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4B41-63E8-49D8-82A7-10E9E557E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600" y="9140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nificación de Contingen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0120"/>
            <a:ext cx="640080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2439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cciones de Planes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os e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terminar pol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tablecer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dentificar las actividades para alcanzar los 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ignar roles y tiemp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parar e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6811920"/>
            <a:ext cx="2209680" cy="1873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38480" y="6705720"/>
            <a:ext cx="2414880" cy="192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71800" y="7543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íticas y 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lementos esenciales deben ser compatibles con el resto del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eneralmente aceptados por todos los 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 necesariamente estadíst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alistas y facti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00200" y="594360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ctividades por sec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t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gis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ificación de Empla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li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oméstico y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n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ud y nutr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spcBef>
                <a:spcPts val="799"/>
              </a:spcBef>
              <a:buClr>
                <a:srgbClr val="000000"/>
              </a:buClr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rvicio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14800" y="5562720"/>
            <a:ext cx="230508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ganización y Administració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ucturas administrativ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ordin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canismos de consul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oles ejecutivos y modos de ejecu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olíticas sobre medios de inform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strategia de financi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poyo administrativo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ficin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08600" indent="-1569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943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formación para añadir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6477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ap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uadros estadístic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egislación importan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rmulario de registro y formatos de segu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rganigrama de person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sobre las condiciones de vi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ontac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6934320"/>
            <a:ext cx="212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858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ex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791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4 - Monitores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572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3 - Objetivos y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S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3505320"/>
            <a:ext cx="518148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ítulo 2 -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86000"/>
            <a:ext cx="518148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ítulo 1 - Situación General E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ticip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3352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n esquema de un típico Plan 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Ponerlo al Dí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 plan de contingencia no es estadístico.  Es esencial ponerlo al día regularment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6004080"/>
            <a:ext cx="5105160" cy="309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9579800">
            <a:off x="1908000" y="647604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  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lanificación de Conting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829480" cy="54864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ceso de planificación en estado de incertidumbre donde hay acuerdo sobre los escenarios y objetivos; donde las acciones técnicas y administrativas están definidas, y donde los sistemas potenciales de respuestas están puestos en su sitio para prevenir, o responder mejor, a las emergencias o situaciones crític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701028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Medidas de Preparación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480" y="2641680"/>
            <a:ext cx="6343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ficación de las contin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as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os a la mano (o disponi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ndos de emerg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ínea directiva y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5638680"/>
            <a:ext cx="28195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quisitos para enfrentarse efectivamente a las situaciones de emergencia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743200"/>
            <a:ext cx="5943600" cy="5257800"/>
            <a:chOff x="457200" y="2743200"/>
            <a:chExt cx="5943600" cy="5257800"/>
          </a:xfrm>
        </p:grpSpPr>
        <p:sp>
          <p:nvSpPr>
            <p:cNvPr id="52" name=""/>
            <p:cNvSpPr/>
            <p:nvPr/>
          </p:nvSpPr>
          <p:spPr>
            <a:xfrm>
              <a:off x="1523880" y="2743200"/>
              <a:ext cx="3429000" cy="335304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572000"/>
              <a:ext cx="3352680" cy="342900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" y="4648320"/>
              <a:ext cx="3352680" cy="33526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33720" y="350532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lanificación Efectiv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cisiones Rápida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33920" y="594360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cursos Disponibles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Niveles de Prepara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520" y="4114800"/>
            <a:ext cx="6018480" cy="4233240"/>
            <a:chOff x="533520" y="4114800"/>
            <a:chExt cx="6018480" cy="4233240"/>
          </a:xfrm>
        </p:grpSpPr>
        <p:grpSp>
          <p:nvGrpSpPr>
            <p:cNvPr id="60" name=""/>
            <p:cNvGrpSpPr/>
            <p:nvPr/>
          </p:nvGrpSpPr>
          <p:grpSpPr>
            <a:xfrm>
              <a:off x="533520" y="4114800"/>
              <a:ext cx="6018480" cy="4233240"/>
              <a:chOff x="533520" y="4114800"/>
              <a:chExt cx="6018480" cy="4233240"/>
            </a:xfrm>
          </p:grpSpPr>
          <p:sp>
            <p:nvSpPr>
              <p:cNvPr id="61" name=""/>
              <p:cNvSpPr/>
              <p:nvPr/>
            </p:nvSpPr>
            <p:spPr>
              <a:xfrm>
                <a:off x="537480" y="7379280"/>
                <a:ext cx="6014520" cy="965880"/>
              </a:xfrm>
              <a:custGeom>
                <a:avLst/>
                <a:gdLst/>
                <a:ahLst/>
                <a:rect l="l" t="t" r="r" b="b"/>
                <a:pathLst>
                  <a:path w="5715" h="710">
                    <a:moveTo>
                      <a:pt x="0" y="710"/>
                    </a:moveTo>
                    <a:lnTo>
                      <a:pt x="3727" y="710"/>
                    </a:lnTo>
                    <a:lnTo>
                      <a:pt x="5715" y="0"/>
                    </a:lnTo>
                    <a:lnTo>
                      <a:pt x="1472" y="0"/>
                    </a:lnTo>
                    <a:lnTo>
                      <a:pt x="0" y="71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3520" y="4114800"/>
                <a:ext cx="1555200" cy="4233240"/>
              </a:xfrm>
              <a:custGeom>
                <a:avLst/>
                <a:gdLst/>
                <a:ahLst/>
                <a:rect l="l" t="t" r="r" b="b"/>
                <a:pathLst>
                  <a:path w="1478" h="3121">
                    <a:moveTo>
                      <a:pt x="0" y="3121"/>
                    </a:moveTo>
                    <a:lnTo>
                      <a:pt x="1478" y="2408"/>
                    </a:lnTo>
                    <a:lnTo>
                      <a:pt x="1478" y="0"/>
                    </a:lnTo>
                    <a:lnTo>
                      <a:pt x="0" y="448"/>
                    </a:lnTo>
                    <a:lnTo>
                      <a:pt x="0" y="3121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899280" y="4722840"/>
              <a:ext cx="4373280" cy="3381480"/>
              <a:chOff x="899280" y="4722840"/>
              <a:chExt cx="4373280" cy="33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34680" y="5325120"/>
                <a:ext cx="2736000" cy="2054160"/>
              </a:xfrm>
              <a:custGeom>
                <a:avLst/>
                <a:gdLst/>
                <a:ahLst/>
                <a:rect l="l" t="t" r="r" b="b"/>
                <a:pathLst>
                  <a:path w="2599" h="1515">
                    <a:moveTo>
                      <a:pt x="0" y="816"/>
                    </a:moveTo>
                    <a:lnTo>
                      <a:pt x="693" y="536"/>
                    </a:lnTo>
                    <a:lnTo>
                      <a:pt x="1126" y="712"/>
                    </a:lnTo>
                    <a:lnTo>
                      <a:pt x="1353" y="269"/>
                    </a:lnTo>
                    <a:lnTo>
                      <a:pt x="2077" y="0"/>
                    </a:lnTo>
                    <a:lnTo>
                      <a:pt x="2599" y="178"/>
                    </a:lnTo>
                    <a:lnTo>
                      <a:pt x="1819" y="1515"/>
                    </a:lnTo>
                    <a:lnTo>
                      <a:pt x="0" y="1515"/>
                    </a:lnTo>
                    <a:lnTo>
                      <a:pt x="0" y="816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3464" y="2316"/>
                    </a:lnTo>
                    <a:lnTo>
                      <a:pt x="3464" y="0"/>
                    </a:lnTo>
                    <a:lnTo>
                      <a:pt x="2683" y="979"/>
                    </a:lnTo>
                    <a:lnTo>
                      <a:pt x="1991" y="624"/>
                    </a:lnTo>
                    <a:lnTo>
                      <a:pt x="1299" y="1603"/>
                    </a:lnTo>
                    <a:lnTo>
                      <a:pt x="606" y="1158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0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280" y="4961520"/>
                <a:ext cx="3645000" cy="3142800"/>
              </a:xfrm>
              <a:custGeom>
                <a:avLst/>
                <a:gdLst/>
                <a:ahLst/>
                <a:rect l="l" t="t" r="r" b="b"/>
                <a:pathLst>
                  <a:path w="3464" h="2316">
                    <a:moveTo>
                      <a:pt x="0" y="2316"/>
                    </a:moveTo>
                    <a:lnTo>
                      <a:pt x="637" y="1271"/>
                    </a:lnTo>
                    <a:lnTo>
                      <a:pt x="1299" y="1692"/>
                    </a:lnTo>
                    <a:lnTo>
                      <a:pt x="1991" y="713"/>
                    </a:lnTo>
                    <a:lnTo>
                      <a:pt x="2683" y="1069"/>
                    </a:lnTo>
                    <a:lnTo>
                      <a:pt x="3291" y="267"/>
                    </a:lnTo>
                    <a:lnTo>
                      <a:pt x="3378" y="356"/>
                    </a:lnTo>
                    <a:lnTo>
                      <a:pt x="3464" y="0"/>
                    </a:lnTo>
                    <a:lnTo>
                      <a:pt x="3117" y="91"/>
                    </a:lnTo>
                    <a:lnTo>
                      <a:pt x="3205" y="178"/>
                    </a:lnTo>
                    <a:lnTo>
                      <a:pt x="2640" y="893"/>
                    </a:lnTo>
                    <a:lnTo>
                      <a:pt x="1959" y="536"/>
                    </a:lnTo>
                    <a:lnTo>
                      <a:pt x="1267" y="1517"/>
                    </a:lnTo>
                    <a:lnTo>
                      <a:pt x="606" y="1082"/>
                    </a:lnTo>
                    <a:lnTo>
                      <a:pt x="0" y="2040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00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544280" y="4722840"/>
                <a:ext cx="728280" cy="3381480"/>
              </a:xfrm>
              <a:custGeom>
                <a:avLst/>
                <a:gdLst/>
                <a:ahLst/>
                <a:rect l="l" t="t" r="r" b="b"/>
                <a:pathLst>
                  <a:path w="692" h="2494">
                    <a:moveTo>
                      <a:pt x="0" y="2494"/>
                    </a:moveTo>
                    <a:lnTo>
                      <a:pt x="692" y="2228"/>
                    </a:lnTo>
                    <a:lnTo>
                      <a:pt x="692" y="0"/>
                    </a:lnTo>
                    <a:lnTo>
                      <a:pt x="0" y="178"/>
                    </a:lnTo>
                    <a:lnTo>
                      <a:pt x="0" y="2494"/>
                    </a:lnTo>
                    <a:close/>
                  </a:path>
                </a:pathLst>
              </a:custGeom>
              <a:solidFill>
                <a:srgbClr val="000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133720" y="7238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21160"/>
            <a:ext cx="2819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2. Espec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352680"/>
            <a:ext cx="4038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Alerta Intensif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829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5962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No solamente un Pl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grupo de personas o organizaciones trabajando juntos y en forma continua para identificar objetivos en común y definir acciones respectiva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76520" y="6705720"/>
            <a:ext cx="36576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1252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onde esta usted aho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3429000"/>
            <a:ext cx="4648320" cy="3200400"/>
            <a:chOff x="1752480" y="3429000"/>
            <a:chExt cx="4648320" cy="3200400"/>
          </a:xfrm>
        </p:grpSpPr>
        <p:sp>
          <p:nvSpPr>
            <p:cNvPr id="76" name=""/>
            <p:cNvSpPr/>
            <p:nvPr/>
          </p:nvSpPr>
          <p:spPr>
            <a:xfrm>
              <a:off x="4191120" y="3429000"/>
              <a:ext cx="220968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y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5029200"/>
              <a:ext cx="2209680" cy="160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 reun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in pla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3429000"/>
              <a:ext cx="2438640" cy="16002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Con pla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52480" y="5029200"/>
              <a:ext cx="2438640" cy="16002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planes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000000"/>
                  </a:solidFill>
                  <a:latin typeface="Times New Roman"/>
                </a:rPr>
                <a:t>sin reunion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80880" y="2438280"/>
            <a:ext cx="1219320" cy="5562720"/>
          </a:xfrm>
          <a:prstGeom prst="upArrow">
            <a:avLst>
              <a:gd name="adj1" fmla="val 50000"/>
              <a:gd name="adj2" fmla="val 1140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971800"/>
            <a:ext cx="38124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Pla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7238880"/>
            <a:ext cx="4572000" cy="9144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 r o c e s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lementos de un Pla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 Conting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ormación básica del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sibles e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s/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n de Se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ex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28800" y="6324480"/>
            <a:ext cx="33526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Información Básica</a:t>
            </a:r>
            <a:br>
              <a:rPr sz="4400"/>
            </a:b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el Paí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e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em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lítica e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istó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conó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fra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egislación de as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esencia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19920" indent="-619920">
              <a:spcBef>
                <a:spcPts val="799"/>
              </a:spcBef>
              <a:buClr>
                <a:srgbClr val="008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curso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0:13:37Z</dcterms:created>
  <dc:creator>ops</dc:creator>
  <dc:description/>
  <dc:language>en-US</dc:language>
  <cp:lastModifiedBy>ops</cp:lastModifiedBy>
  <cp:lastPrinted>1999-10-20T01:58:35Z</cp:lastPrinted>
  <dcterms:modified xsi:type="dcterms:W3CDTF">1999-10-20T02:01:11Z</dcterms:modified>
  <cp:revision>6</cp:revision>
  <dc:subject/>
  <dc:title>Planificación de Contingencias</dc:title>
</cp:coreProperties>
</file>