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2.wmf" ContentType="image/x-wmf"/>
  <Override PartName="/ppt/media/image11.jpeg" ContentType="image/jpeg"/>
  <Override PartName="/ppt/media/image16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62F-1A58-4666-92F2-7D902E8D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75F-1ABD-4B2D-9B7B-9687EE9F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E2F-3DFB-4AE4-AF9A-ACCDE1F3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7F7B-2E22-4068-9D2D-8F55A09B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96A-27AA-44B3-80D8-5A8CB3C8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3163-1805-4DCA-AE8A-01D40870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56A-6E4F-49FB-ABC4-8E295C1A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053-17E6-4A6F-815C-62092E6F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D509-75B6-437C-8D47-D113D96A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6F31-CB3E-497A-9F4F-B296A9FB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4B7-F6B9-4972-9701-47B49563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674-D8EC-4DFC-8651-14ACD3AB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4E46-8B1E-4C77-A62F-E74B30AF5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600" y="9140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lanificación de Contingenci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7620120"/>
            <a:ext cx="640080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24397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cciones de Planes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e Contin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dentificar los e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terminar polí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stablecer 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dentificar las actividades para alcanzar los 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signar roles y tiemp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eparar el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6811920"/>
            <a:ext cx="2209680" cy="1873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038480" y="6705720"/>
            <a:ext cx="2414880" cy="1928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71800" y="7543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líticas y Objetiv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6477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lementos esenciales deben ser compatibles con el resto del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eneralmente aceptados por todos los participa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 necesariamente estadíst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alistas y factib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00200" y="5943600"/>
            <a:ext cx="4419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582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tividades por sect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ot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gis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lanificación de Emplaz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li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oméstico y o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ane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alud y nutr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ervicios So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14800" y="5562720"/>
            <a:ext cx="23050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Organización y Administració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6477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structuras administrativ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canismos de coordin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canismos de consul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oles ejecutivos y modos de ejecu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líticas sobre medios de inform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strategia de financiami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oyo administrativo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icin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quip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formación para añadir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6477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ap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uadros estadístic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gislación importan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ormulario de registro y formatos de seguimien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rganigrama de person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tículo sobre las condiciones de vi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ontact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038480" y="6934320"/>
            <a:ext cx="2129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858000"/>
            <a:ext cx="5181480" cy="1219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ex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791320"/>
            <a:ext cx="5181480" cy="1066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ítulo 4 - Monitores y Segu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572000"/>
            <a:ext cx="5181480" cy="1219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ítulo 3 - Objetivos y 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Se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505320"/>
            <a:ext cx="5181480" cy="1066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ítulo 2 - 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286000"/>
            <a:ext cx="5181480" cy="1219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ítulo 1 - Situación General E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ticip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53352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Un esquema de un típico Plan de Contin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Ponerlo al Día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 plan de contingencia no es estadístico.  Es esencial ponerlo al día regularmente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3520" y="6004080"/>
            <a:ext cx="5105160" cy="3090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rot="19579800">
            <a:off x="1908000" y="647604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  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g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lanificación de Conting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5829480" cy="54864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proceso de planificación en estado de incertidumbre donde hay acuerdo sobre los escenarios y objetivos; donde las acciones técnicas y administrativas están definidas, y donde los sistemas potenciales de respuestas están puestos en su sitio para prevenir, o responder mejor, a las emergencias o situaciones crític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0400" y="7010280"/>
            <a:ext cx="2743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Medidas de Preparación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480" y="2641680"/>
            <a:ext cx="6343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ificación de las conting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rvas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os a la mano (o disponi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ndos de emerg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ínea directiva y 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29000" y="5638680"/>
            <a:ext cx="281952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quisitos para enfrentarse efectivamente a las situaciones de emergencia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57200" y="2743200"/>
            <a:ext cx="5943600" cy="5257800"/>
            <a:chOff x="457200" y="2743200"/>
            <a:chExt cx="5943600" cy="5257800"/>
          </a:xfrm>
        </p:grpSpPr>
        <p:sp>
          <p:nvSpPr>
            <p:cNvPr id="52" name=""/>
            <p:cNvSpPr/>
            <p:nvPr/>
          </p:nvSpPr>
          <p:spPr>
            <a:xfrm>
              <a:off x="1523880" y="2743200"/>
              <a:ext cx="3429000" cy="3353040"/>
            </a:xfrm>
            <a:prstGeom prst="ellipse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4572000"/>
              <a:ext cx="3352680" cy="342900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7200" y="4648320"/>
              <a:ext cx="3352680" cy="33526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33720" y="3505320"/>
              <a:ext cx="2438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lanificación Efectiv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" y="5943600"/>
              <a:ext cx="2438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cisiones Rápida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33920" y="5943600"/>
              <a:ext cx="2438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ecursos Disponible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Niveles de Prepara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520" y="4114800"/>
            <a:ext cx="6018480" cy="4233240"/>
            <a:chOff x="533520" y="4114800"/>
            <a:chExt cx="6018480" cy="4233240"/>
          </a:xfrm>
        </p:grpSpPr>
        <p:grpSp>
          <p:nvGrpSpPr>
            <p:cNvPr id="60" name=""/>
            <p:cNvGrpSpPr/>
            <p:nvPr/>
          </p:nvGrpSpPr>
          <p:grpSpPr>
            <a:xfrm>
              <a:off x="533520" y="4114800"/>
              <a:ext cx="6018480" cy="4233240"/>
              <a:chOff x="533520" y="4114800"/>
              <a:chExt cx="6018480" cy="4233240"/>
            </a:xfrm>
          </p:grpSpPr>
          <p:sp>
            <p:nvSpPr>
              <p:cNvPr id="61" name=""/>
              <p:cNvSpPr/>
              <p:nvPr/>
            </p:nvSpPr>
            <p:spPr>
              <a:xfrm>
                <a:off x="537480" y="7379280"/>
                <a:ext cx="6014520" cy="965880"/>
              </a:xfrm>
              <a:custGeom>
                <a:avLst/>
                <a:gdLst/>
                <a:ahLst/>
                <a:rect l="l" t="t" r="r" b="b"/>
                <a:pathLst>
                  <a:path w="5715" h="710">
                    <a:moveTo>
                      <a:pt x="0" y="710"/>
                    </a:moveTo>
                    <a:lnTo>
                      <a:pt x="3727" y="710"/>
                    </a:lnTo>
                    <a:lnTo>
                      <a:pt x="5715" y="0"/>
                    </a:lnTo>
                    <a:lnTo>
                      <a:pt x="1472" y="0"/>
                    </a:lnTo>
                    <a:lnTo>
                      <a:pt x="0" y="71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33520" y="4114800"/>
                <a:ext cx="1555200" cy="4233240"/>
              </a:xfrm>
              <a:custGeom>
                <a:avLst/>
                <a:gdLst/>
                <a:ahLst/>
                <a:rect l="l" t="t" r="r" b="b"/>
                <a:pathLst>
                  <a:path w="1478" h="3121">
                    <a:moveTo>
                      <a:pt x="0" y="3121"/>
                    </a:moveTo>
                    <a:lnTo>
                      <a:pt x="1478" y="2408"/>
                    </a:lnTo>
                    <a:lnTo>
                      <a:pt x="1478" y="0"/>
                    </a:lnTo>
                    <a:lnTo>
                      <a:pt x="0" y="448"/>
                    </a:lnTo>
                    <a:lnTo>
                      <a:pt x="0" y="3121"/>
                    </a:lnTo>
                    <a:close/>
                  </a:path>
                </a:pathLst>
              </a:custGeom>
              <a:solidFill>
                <a:srgbClr val="808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899280" y="4722840"/>
              <a:ext cx="4373280" cy="3381480"/>
              <a:chOff x="899280" y="4722840"/>
              <a:chExt cx="4373280" cy="3381480"/>
            </a:xfrm>
          </p:grpSpPr>
          <p:sp>
            <p:nvSpPr>
              <p:cNvPr id="64" name=""/>
              <p:cNvSpPr/>
              <p:nvPr/>
            </p:nvSpPr>
            <p:spPr>
              <a:xfrm>
                <a:off x="1534680" y="5325120"/>
                <a:ext cx="2736000" cy="2054160"/>
              </a:xfrm>
              <a:custGeom>
                <a:avLst/>
                <a:gdLst/>
                <a:ahLst/>
                <a:rect l="l" t="t" r="r" b="b"/>
                <a:pathLst>
                  <a:path w="2599" h="1515">
                    <a:moveTo>
                      <a:pt x="0" y="816"/>
                    </a:moveTo>
                    <a:lnTo>
                      <a:pt x="693" y="536"/>
                    </a:lnTo>
                    <a:lnTo>
                      <a:pt x="1126" y="712"/>
                    </a:lnTo>
                    <a:lnTo>
                      <a:pt x="1353" y="269"/>
                    </a:lnTo>
                    <a:lnTo>
                      <a:pt x="2077" y="0"/>
                    </a:lnTo>
                    <a:lnTo>
                      <a:pt x="2599" y="178"/>
                    </a:lnTo>
                    <a:lnTo>
                      <a:pt x="1819" y="1515"/>
                    </a:lnTo>
                    <a:lnTo>
                      <a:pt x="0" y="1515"/>
                    </a:lnTo>
                    <a:lnTo>
                      <a:pt x="0" y="816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9280" y="4961520"/>
                <a:ext cx="3645000" cy="3142800"/>
              </a:xfrm>
              <a:custGeom>
                <a:avLst/>
                <a:gdLst/>
                <a:ahLst/>
                <a:rect l="l" t="t" r="r" b="b"/>
                <a:pathLst>
                  <a:path w="3464" h="2316">
                    <a:moveTo>
                      <a:pt x="0" y="2316"/>
                    </a:moveTo>
                    <a:lnTo>
                      <a:pt x="3464" y="2316"/>
                    </a:lnTo>
                    <a:lnTo>
                      <a:pt x="3464" y="0"/>
                    </a:lnTo>
                    <a:lnTo>
                      <a:pt x="2683" y="979"/>
                    </a:lnTo>
                    <a:lnTo>
                      <a:pt x="1991" y="624"/>
                    </a:lnTo>
                    <a:lnTo>
                      <a:pt x="1299" y="1603"/>
                    </a:lnTo>
                    <a:lnTo>
                      <a:pt x="606" y="1158"/>
                    </a:lnTo>
                    <a:lnTo>
                      <a:pt x="0" y="2316"/>
                    </a:lnTo>
                    <a:close/>
                  </a:path>
                </a:pathLst>
              </a:custGeom>
              <a:solidFill>
                <a:srgbClr val="0000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280" y="4961520"/>
                <a:ext cx="3645000" cy="3142800"/>
              </a:xfrm>
              <a:custGeom>
                <a:avLst/>
                <a:gdLst/>
                <a:ahLst/>
                <a:rect l="l" t="t" r="r" b="b"/>
                <a:pathLst>
                  <a:path w="3464" h="2316">
                    <a:moveTo>
                      <a:pt x="0" y="2316"/>
                    </a:moveTo>
                    <a:lnTo>
                      <a:pt x="637" y="1271"/>
                    </a:lnTo>
                    <a:lnTo>
                      <a:pt x="1299" y="1692"/>
                    </a:lnTo>
                    <a:lnTo>
                      <a:pt x="1991" y="713"/>
                    </a:lnTo>
                    <a:lnTo>
                      <a:pt x="2683" y="1069"/>
                    </a:lnTo>
                    <a:lnTo>
                      <a:pt x="3291" y="267"/>
                    </a:lnTo>
                    <a:lnTo>
                      <a:pt x="3378" y="356"/>
                    </a:lnTo>
                    <a:lnTo>
                      <a:pt x="3464" y="0"/>
                    </a:lnTo>
                    <a:lnTo>
                      <a:pt x="3117" y="91"/>
                    </a:lnTo>
                    <a:lnTo>
                      <a:pt x="3205" y="178"/>
                    </a:lnTo>
                    <a:lnTo>
                      <a:pt x="2640" y="893"/>
                    </a:lnTo>
                    <a:lnTo>
                      <a:pt x="1959" y="536"/>
                    </a:lnTo>
                    <a:lnTo>
                      <a:pt x="1267" y="1517"/>
                    </a:lnTo>
                    <a:lnTo>
                      <a:pt x="606" y="1082"/>
                    </a:lnTo>
                    <a:lnTo>
                      <a:pt x="0" y="2040"/>
                    </a:lnTo>
                    <a:lnTo>
                      <a:pt x="0" y="2316"/>
                    </a:lnTo>
                    <a:close/>
                  </a:path>
                </a:pathLst>
              </a:custGeom>
              <a:solidFill>
                <a:srgbClr val="00ff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544280" y="4722840"/>
                <a:ext cx="728280" cy="3381480"/>
              </a:xfrm>
              <a:custGeom>
                <a:avLst/>
                <a:gdLst/>
                <a:ahLst/>
                <a:rect l="l" t="t" r="r" b="b"/>
                <a:pathLst>
                  <a:path w="692" h="2494">
                    <a:moveTo>
                      <a:pt x="0" y="2494"/>
                    </a:moveTo>
                    <a:lnTo>
                      <a:pt x="692" y="2228"/>
                    </a:lnTo>
                    <a:lnTo>
                      <a:pt x="692" y="0"/>
                    </a:lnTo>
                    <a:lnTo>
                      <a:pt x="0" y="178"/>
                    </a:lnTo>
                    <a:lnTo>
                      <a:pt x="0" y="2494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2133720" y="7238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421160"/>
            <a:ext cx="28191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. Especí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Paí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3352680"/>
            <a:ext cx="4038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Alerta Intensific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829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5962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No solamente un Pla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 grupo de personas o organizaciones trabajando juntos y en forma continua para identificar objetivos en común y definir acciones respectiva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76520" y="6705720"/>
            <a:ext cx="36576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1252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Donde esta usted aho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752480" y="3429000"/>
            <a:ext cx="4648320" cy="3200400"/>
            <a:chOff x="1752480" y="3429000"/>
            <a:chExt cx="4648320" cy="3200400"/>
          </a:xfrm>
        </p:grpSpPr>
        <p:sp>
          <p:nvSpPr>
            <p:cNvPr id="76" name=""/>
            <p:cNvSpPr/>
            <p:nvPr/>
          </p:nvSpPr>
          <p:spPr>
            <a:xfrm>
              <a:off x="4191120" y="3429000"/>
              <a:ext cx="2209680" cy="1600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Con plan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y reunion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1120" y="5029200"/>
              <a:ext cx="2209680" cy="1600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 reunio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in pla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52480" y="3429000"/>
              <a:ext cx="2438640" cy="16002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Con plan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sin reunion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52480" y="5029200"/>
              <a:ext cx="2438640" cy="1600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000000"/>
                  </a:solidFill>
                  <a:latin typeface="Times New Roman"/>
                </a:rPr>
                <a:t>Sin planes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000000"/>
                  </a:solidFill>
                  <a:latin typeface="Times New Roman"/>
                </a:rPr>
                <a:t>sin reunion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80880" y="2438280"/>
            <a:ext cx="1219320" cy="5562720"/>
          </a:xfrm>
          <a:prstGeom prst="upArrow">
            <a:avLst>
              <a:gd name="adj1" fmla="val 50000"/>
              <a:gd name="adj2" fmla="val 11405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971800"/>
            <a:ext cx="38124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la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ca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7238880"/>
            <a:ext cx="4572000" cy="9144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r o c e s 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lementos de un Pla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 Contin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formación básica del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sibles e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líticas/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lan de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lan de Sec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nex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28800" y="6324480"/>
            <a:ext cx="335268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Información Básica</a:t>
            </a:r>
            <a:br>
              <a:rPr sz="4400"/>
            </a:b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del Paí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eo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emográ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lítica e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istó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conó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fraestru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egislación de as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esencia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cursos de la Comun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00:13:37Z</dcterms:created>
  <dc:creator>ops</dc:creator>
  <dc:description/>
  <dc:language>en-US</dc:language>
  <cp:lastModifiedBy>ops</cp:lastModifiedBy>
  <cp:lastPrinted>1999-10-20T01:58:35Z</cp:lastPrinted>
  <dcterms:modified xsi:type="dcterms:W3CDTF">1999-10-20T02:01:11Z</dcterms:modified>
  <cp:revision>6</cp:revision>
  <dc:subject/>
  <dc:title>Planificación de Contingencias</dc:title>
</cp:coreProperties>
</file>